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66A-E82D-4288-83BA-ABAA3BE0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C81-42C7-4940-822E-39E82ACB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23A-036F-45E7-AAE9-7C5960B5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28B-46DF-4F6A-8908-5A983362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A42-EED1-4F05-882D-2CA93538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425-0EBE-45C6-A832-CDC8DEC6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437-7E98-48AD-B04B-2BA0725A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AAF-7419-4324-9EA6-8FCF910B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7D2-47A5-4A92-8997-3D62AA15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7E2-CD29-4DBD-9AA5-15F1064D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ECE-99FF-464C-9B2C-48A9CD1D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B3D-E855-4249-9B33-AFF68B5E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BFD2-54F8-48C3-8463-41DA036F1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empus Sans ITC"/>
              </a:rPr>
              <a:t>DECIDUOUS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empus Sans ITC"/>
              </a:rPr>
              <a:t>FOREST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empus Sans ITC"/>
              </a:rPr>
              <a:t>FOOD WEB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8:58:31Z</dcterms:created>
  <dc:creator>Andrew Green</dc:creator>
  <dc:description/>
  <dc:language>en-US</dc:language>
  <cp:lastModifiedBy>Phil Dorjath</cp:lastModifiedBy>
  <dcterms:modified xsi:type="dcterms:W3CDTF">2011-04-27T05:39:53Z</dcterms:modified>
  <cp:revision>1</cp:revision>
  <dc:subject/>
  <dc:title>DECIDUOUS  FOREST  FOOD WEB</dc:title>
</cp:coreProperties>
</file>